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29E-7000-44E7-88C3-1B36EEFD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2F6-9511-417B-BAF3-85CCDA0B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06B-D86F-4047-A2A0-47D69269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05E-47D7-4D47-B0AE-8381F25E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C5BD-DF57-4E9B-B8CA-94022DAA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2E98-9C68-421A-92BF-5E209DCD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2758-7BDA-44E9-93FE-3F4723CE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66C2-BD75-43B1-BE57-3523B8C9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340-B0B4-4BEB-8E17-CF191C34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7480-D154-4D14-8566-2F1E18E4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2227-99A4-4A58-828A-118AC9D3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913-0069-4522-832C-9CEC710D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B2D7-CFE7-4351-8246-ADBD3073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7F84-F949-4D41-A5A7-60F0C6C4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1E4D-416B-4495-A478-89AAF5E4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EA9A-8D03-48C8-A00C-5C827177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62D0-7325-46EB-BBF1-5805DFC1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773-6486-4B57-B306-28B5F4E4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F35-B4AD-4DCC-BE27-B9402832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22A-1086-4588-B096-C07B04CF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C8E-9DD4-4E08-B4C9-BDDEED47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04B-D210-442B-8463-D0D28AFF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A95-2C85-4F35-9E0B-85BC30A1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E90-656E-4D57-9DA6-953FFE19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4B6D-05AC-4AFC-B61E-9BEC2758D3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0C09-0EF1-4979-B80E-6D19A9BAD7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were charging her with mur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claimed she had a motiv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t until they examine her life as Mrs.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right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will never understand what happen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Minnie Foster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cole Kidma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Minnie Fo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eanu Reeve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County Attorn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ohnny Depp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the Sheri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ma Thurman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Mrs. Pe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 Pacino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Mr. Ha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ris Robert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Mrs. Ha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if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20:39:09Z</dcterms:created>
  <dc:creator>jencshu</dc:creator>
  <dc:description/>
  <dc:language>en-US</dc:language>
  <cp:lastModifiedBy>jencshu</cp:lastModifiedBy>
  <dcterms:modified xsi:type="dcterms:W3CDTF">2008-04-06T21:09:41Z</dcterms:modified>
  <cp:revision>2</cp:revision>
  <dc:subject/>
  <dc:title>Slide 1</dc:title>
</cp:coreProperties>
</file>